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DB6-ED3D-4159-AD2B-90D7990B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0AC4-7382-41DB-A473-A3708421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9B8-948C-48BB-9D5F-1084294B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1DF-8018-4E14-B804-63868A2C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796F-F5DA-45E2-AFCF-2AB24532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FB57-9A6B-4B4B-AE6A-5DF79BDB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5EE1-196B-4CC2-A5AE-028E0CC7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17C3-97A4-4E8B-AB42-8A856619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5803-4E39-46F9-8D30-75050168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AA59-374B-4F34-B7D0-59FC4C58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80E4-514A-49B7-B4BA-15227115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53A-A0B6-48F5-B6E1-C1CFFBC1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628D-F7AF-42F5-B120-49C9451B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72BB-FE9B-48F0-A451-B8962E41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101B-8D16-4E13-8BD9-4F6224F9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95D1-89C6-4E05-84FB-C4A17E99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86E4-1F42-4031-A3DC-5954C042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FA3-1CCF-4AD8-BED6-C0183B20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F05C-8424-4B07-BFB5-63C788F6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D7B-C690-44A5-9E19-7C267392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C73-5329-4B63-8944-8A75B246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6B3-4972-4407-A1E5-99CB9EE3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FE1-5860-4918-82B4-280054A7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CD1-2570-48C4-98C5-C774865A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F120-DE81-4167-88C9-07BC99B9C50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F543-CB5B-44AB-A73D-9B2310AB67A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rnano.org/whatis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530280" y="1195560"/>
            <a:ext cx="7864560" cy="2060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5809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nprior"/>
              </a:rPr>
              <a:t>Technological chan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nprior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Arnprior"/>
              </a:rPr>
              <a:t>throughout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Diagram 1" descr=""/>
          <p:cNvPicPr/>
          <p:nvPr/>
        </p:nvPicPr>
        <p:blipFill>
          <a:blip r:embed="rId1"/>
          <a:stretch/>
        </p:blipFill>
        <p:spPr>
          <a:xfrm>
            <a:off x="-158760" y="-6480"/>
            <a:ext cx="9309240" cy="6870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 rot="937800">
            <a:off x="5375880" y="2571840"/>
            <a:ext cx="513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nprior"/>
              </a:rPr>
              <a:t>Nano/bio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nprior"/>
              </a:rPr>
              <a:t>2003--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extBox 4" descr=""/>
          <p:cNvPicPr/>
          <p:nvPr/>
        </p:nvPicPr>
        <p:blipFill>
          <a:blip r:embed="rId2"/>
          <a:stretch/>
        </p:blipFill>
        <p:spPr>
          <a:xfrm>
            <a:off x="1079640" y="244440"/>
            <a:ext cx="7308720" cy="13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iagram 1" descr=""/>
          <p:cNvPicPr/>
          <p:nvPr/>
        </p:nvPicPr>
        <p:blipFill>
          <a:blip r:embed="rId1"/>
          <a:stretch/>
        </p:blipFill>
        <p:spPr>
          <a:xfrm>
            <a:off x="146160" y="-6480"/>
            <a:ext cx="9326520" cy="66452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523880" y="2590920"/>
            <a:ext cx="7086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duca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individual instruction, limited resources, schooled a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Oral and Ges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conom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production and consumption of food, hunting &amp; gathering, families self-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amily Structur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Extended; families tend to live on same lan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olitics: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astes &amp; classes, authoritarian &amp; birth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roduc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Energy from sun, wind &amp; water  “Living Batteries”, “energy slaves”; forest, rivers, people and animals could be replac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Diagram 1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809280" cy="687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2971800" y="2895480"/>
            <a:ext cx="6172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Econom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: mass production of food, trade, stores, corporations (1907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amily structure: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Nuclear (2 parent-home), extended families distanc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Educatio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: mass education, factory/assembly line focuses: rote &amp; repetitive work, punctuality, obe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Politics: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risis &amp; strikes, coup d'états,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Production: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actories, assembly lines, refrigerator in kitchens, vitamins(increased life expectancy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ommunication/Technology: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ransportation, tractors, post office (1837), telephone, typewriters, newspapers, mov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Diagram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0180800" cy="6870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2514600" y="274320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Economy: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oil and gas production (foreign), money exchange rates, global industries (trade &amp; tra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Family structure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: 2 working parent families, single-parent families, grand-parent /grand-child fami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Education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: computer labs, online courses (virtual schools), LCD projectors, CD,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Politics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: capitalism, socialism, communism, world governments: UN,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Production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: increased flights, cars &amp; busses, space exploration, drug &amp;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Communication/Technology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: computers/laptops, internet, cell phones, webcams, instant mess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Diagram 1" descr=""/>
          <p:cNvPicPr/>
          <p:nvPr/>
        </p:nvPicPr>
        <p:blipFill>
          <a:blip r:embed="rId1"/>
          <a:stretch/>
        </p:blipFill>
        <p:spPr>
          <a:xfrm>
            <a:off x="-49320" y="420840"/>
            <a:ext cx="9352080" cy="64735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2743200" y="228600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ext wave will be what Dr. Thornburg &amp; Dr. Dede both predict. It will be a wave of creativity found through new innovative technologies; nano &amp; biotechnologies.  “It will offer better built, longer lasting, cleaner, safer, and smarter products for the home, for communications, for medicine, for transportation, for agriculture, and for industry in general.”  --Center for Responsible Nano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gram 1" descr=""/>
          <p:cNvPicPr/>
          <p:nvPr/>
        </p:nvPicPr>
        <p:blipFill>
          <a:blip r:embed="rId1"/>
          <a:stretch/>
        </p:blipFill>
        <p:spPr>
          <a:xfrm>
            <a:off x="-6480" y="-23760"/>
            <a:ext cx="9156960" cy="6905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C:\Users\Gina\AppData\Local\Microsoft\Windows\Temporary Internet Files\Content.IE5\MQB3RDI1\MCj01983040000[1].wmf"/>
          <p:cNvPicPr/>
          <p:nvPr/>
        </p:nvPicPr>
        <p:blipFill>
          <a:blip r:embed="rId2"/>
          <a:stretch/>
        </p:blipFill>
        <p:spPr>
          <a:xfrm>
            <a:off x="152280" y="2057400"/>
            <a:ext cx="175284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0" y="41148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ests in temples taught religion &amp; principles in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 flipH="1" flipV="1">
            <a:off x="7238520" y="1981080"/>
            <a:ext cx="685800" cy="1371600"/>
          </a:xfrm>
          <a:prstGeom prst="line">
            <a:avLst/>
          </a:prstGeom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C:\Users\Gina\AppData\Local\Microsoft\Windows\Temporary Internet Files\Content.IE5\INU31KSM\MCj02979850000[1].wmf"/>
          <p:cNvPicPr/>
          <p:nvPr/>
        </p:nvPicPr>
        <p:blipFill>
          <a:blip r:embed="rId3"/>
          <a:stretch/>
        </p:blipFill>
        <p:spPr>
          <a:xfrm>
            <a:off x="3809880" y="3581280"/>
            <a:ext cx="1670040" cy="1497240"/>
          </a:xfrm>
          <a:prstGeom prst="rect">
            <a:avLst/>
          </a:prstGeom>
          <a:ln w="0">
            <a:noFill/>
          </a:ln>
        </p:spPr>
      </p:pic>
      <p:sp>
        <p:nvSpPr>
          <p:cNvPr id="113" name="Line 3"/>
          <p:cNvSpPr/>
          <p:nvPr/>
        </p:nvSpPr>
        <p:spPr>
          <a:xfrm>
            <a:off x="4419000" y="3352680"/>
            <a:ext cx="75960" cy="304920"/>
          </a:xfrm>
          <a:prstGeom prst="line">
            <a:avLst/>
          </a:prstGeom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C:\Users\Gina\AppData\Local\Microsoft\Windows\Temporary Internet Files\Content.IE5\0WDKXMXX\MCj04125660000[1].wmf"/>
          <p:cNvPicPr/>
          <p:nvPr/>
        </p:nvPicPr>
        <p:blipFill>
          <a:blip r:embed="rId4"/>
          <a:stretch/>
        </p:blipFill>
        <p:spPr>
          <a:xfrm>
            <a:off x="2590920" y="152280"/>
            <a:ext cx="1981080" cy="1889280"/>
          </a:xfrm>
          <a:prstGeom prst="rect">
            <a:avLst/>
          </a:prstGeom>
          <a:ln w="0">
            <a:noFill/>
          </a:ln>
        </p:spPr>
      </p:pic>
      <p:sp>
        <p:nvSpPr>
          <p:cNvPr id="115" name="Line 3"/>
          <p:cNvSpPr/>
          <p:nvPr/>
        </p:nvSpPr>
        <p:spPr>
          <a:xfrm>
            <a:off x="4572000" y="838080"/>
            <a:ext cx="1371600" cy="457200"/>
          </a:xfrm>
          <a:prstGeom prst="line">
            <a:avLst/>
          </a:prstGeom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3276720" y="5105520"/>
            <a:ext cx="45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ies, mass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04920" y="3808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 communication: cell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Gina\AppData\Local\Microsoft\Windows\Temporary Internet Files\Content.IE5\MQB3RDI1\MCj03324440000[1].wmf"/>
          <p:cNvPicPr/>
          <p:nvPr/>
        </p:nvPicPr>
        <p:blipFill>
          <a:blip r:embed="rId5"/>
          <a:stretch/>
        </p:blipFill>
        <p:spPr>
          <a:xfrm>
            <a:off x="6781680" y="3352680"/>
            <a:ext cx="2057400" cy="1844640"/>
          </a:xfrm>
          <a:prstGeom prst="rect">
            <a:avLst/>
          </a:prstGeom>
          <a:ln w="0">
            <a:noFill/>
          </a:ln>
        </p:spPr>
      </p:pic>
      <p:sp>
        <p:nvSpPr>
          <p:cNvPr id="119" name="Line 3"/>
          <p:cNvSpPr/>
          <p:nvPr/>
        </p:nvSpPr>
        <p:spPr>
          <a:xfrm flipH="1" flipV="1">
            <a:off x="1676160" y="3581280"/>
            <a:ext cx="75960" cy="533520"/>
          </a:xfrm>
          <a:prstGeom prst="line">
            <a:avLst/>
          </a:prstGeom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6248520" y="5334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genome sequence was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nter for Responsible Nanotechnology (CRN).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www.crnano.org/whatis.ht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de, C. (Speaker). (2008). The Next Wave, Part 2. Laureate Education, In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ornburg, D. (Speaker). (2008). The Next Wave, Part 1. Laureate Education, In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ffler, Alvin. (1980). The Third Wave. New York: Bantam Books Cambridge University P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right Jr.,B.D. (2009, March 8). Assistant Regional Manager. Pfizer Pharmaceuticals. (intervie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6:52:53Z</dcterms:created>
  <dc:creator>Gina</dc:creator>
  <dc:description/>
  <dc:language>en-US</dc:language>
  <cp:lastModifiedBy>Gina</cp:lastModifiedBy>
  <dcterms:modified xsi:type="dcterms:W3CDTF">2009-04-01T00:45:31Z</dcterms:modified>
  <cp:revision>127</cp:revision>
  <dc:subject/>
  <dc:title>Strand One: Toffler’s Three Waves</dc:title>
</cp:coreProperties>
</file>